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oogle Shape;57;p100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oogle Shape;59;p101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402" name="Google Shape;60;p101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Google Shape;70;p103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Google Shape;77;p104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Google Shape;82;p105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641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pic>
        <p:nvPicPr>
          <p:cNvPr id="39" name="Google Shape;16;p93" descr="A picture containing logo&#10;&#10;Description automatically generated"/>
          <p:cNvPicPr/>
          <p:nvPr/>
        </p:nvPicPr>
        <p:blipFill>
          <a:blip r:embed="rId3"/>
          <a:stretch/>
        </p:blipFill>
        <p:spPr>
          <a:xfrm>
            <a:off x="969840" y="365040"/>
            <a:ext cx="2810160" cy="5907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oogle Shape;21;p94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22;p94" descr="A picture containing text, windmill, device&#10;&#10;Description automatically generated"/>
          <p:cNvPicPr/>
          <p:nvPr/>
        </p:nvPicPr>
        <p:blipFill>
          <a:blip r:embed="rId3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oogle Shape;21;p94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pic>
        <p:nvPicPr>
          <p:cNvPr id="121" name="Google Shape;22;p94" descr="A picture containing text, windmill, device&#10;&#10;Description automatically generated"/>
          <p:cNvPicPr/>
          <p:nvPr/>
        </p:nvPicPr>
        <p:blipFill>
          <a:blip r:embed="rId3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oogle Shape;29;p95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961236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202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oogle Shape;42;p97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Google Shape;47;p98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9612360" y="6337440"/>
            <a:ext cx="1758960" cy="368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oogle Shape;52;p99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838080" y="6146640"/>
            <a:ext cx="1758960" cy="370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4360" y="1951200"/>
            <a:ext cx="7824600" cy="333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-analytic Dashbo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Sample Dashbo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5000" y="2736720"/>
            <a:ext cx="2876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shboar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73560" y="652320"/>
            <a:ext cx="7097760" cy="54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% Hemoly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%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% Cl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% 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Potassiu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Arm band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Filter by phlebotomi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hboard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Google Shape;97;p3" descr="example of dashboard overview for pre-analytical testing "/>
          <p:cNvPicPr/>
          <p:nvPr/>
        </p:nvPicPr>
        <p:blipFill>
          <a:blip r:embed="rId1"/>
          <a:stretch/>
        </p:blipFill>
        <p:spPr>
          <a:xfrm>
            <a:off x="2679840" y="1825560"/>
            <a:ext cx="6832440" cy="39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CE Lab Vs. Non-Lab (Nur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Google Shape;103;p4" descr="example of graph for NCE labs vs non-labs"/>
          <p:cNvPicPr/>
          <p:nvPr/>
        </p:nvPicPr>
        <p:blipFill>
          <a:blip r:embed="rId1"/>
          <a:stretch/>
        </p:blipFill>
        <p:spPr>
          <a:xfrm>
            <a:off x="1581120" y="1890720"/>
            <a:ext cx="9029880" cy="378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 NCE (Hemolyzed and Clo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Google Shape;109;p5" descr="example graph of % NCE "/>
          <p:cNvPicPr/>
          <p:nvPr/>
        </p:nvPicPr>
        <p:blipFill>
          <a:blip r:embed="rId1"/>
          <a:stretch/>
        </p:blipFill>
        <p:spPr>
          <a:xfrm>
            <a:off x="1428840" y="2443320"/>
            <a:ext cx="9334440" cy="26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 Contaminated and Q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Google Shape;115;p6" descr="Example graph of data in dashboard "/>
          <p:cNvPicPr/>
          <p:nvPr/>
        </p:nvPicPr>
        <p:blipFill>
          <a:blip r:embed="rId1"/>
          <a:stretch/>
        </p:blipFill>
        <p:spPr>
          <a:xfrm>
            <a:off x="1447920" y="2443320"/>
            <a:ext cx="9296280" cy="26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ssium Audit &lt;4.7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an filter by Phlebotomist for education and re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Google Shape;121;p7" descr=""/>
          <p:cNvPicPr/>
          <p:nvPr/>
        </p:nvPicPr>
        <p:blipFill>
          <a:blip r:embed="rId1"/>
          <a:stretch/>
        </p:blipFill>
        <p:spPr>
          <a:xfrm>
            <a:off x="1976400" y="1825560"/>
            <a:ext cx="8239320" cy="39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123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m band scanning/Patient Identific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an filter by Phlebotomist for education/re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Google Shape;127;p8" descr="example data of arm band scanning data in dashboard "/>
          <p:cNvPicPr/>
          <p:nvPr/>
        </p:nvPicPr>
        <p:blipFill>
          <a:blip r:embed="rId1"/>
          <a:stretch/>
        </p:blipFill>
        <p:spPr>
          <a:xfrm>
            <a:off x="1057320" y="1943280"/>
            <a:ext cx="993456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21T00:00:12Z</dcterms:created>
  <dc:creator>Abumuhor, Ihab A</dc:creator>
  <dc:description/>
  <dc:language>en-US</dc:language>
  <cp:lastModifiedBy>app</cp:lastModifiedBy>
  <dcterms:modified xsi:type="dcterms:W3CDTF">2023-09-22T20:40:13Z</dcterms:modified>
  <cp:revision>3</cp:revision>
  <dc:subject/>
  <dc:title>Pre-analytic Dashboards</dc:title>
</cp:coreProperties>
</file>